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A0A-6D94-4BCF-B85E-65AEB25F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EAC-5E18-485A-B2CC-0D8B30E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2C6-0012-434A-88FB-A2FAE9D7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0CD-56D4-4045-A1A5-6C301169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0A4-F22C-4661-A15F-EF9917F8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2D5-E899-4D6E-BE76-02DA931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7771-01B0-43C4-B804-86776D23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131-4E07-4450-9FFD-F3AEA6BC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22CD-B6E6-4B1D-ACDE-1847D07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6D73-F6F8-455A-9863-E29E5EBA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45E1-F528-47C6-B71F-0F35510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CEA-EE69-43B0-B758-D63101A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2B14-C930-418B-A803-7BDF255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593B-EA1B-4E6E-B1DB-AAF1DF0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12B0-602D-4F47-8A30-C38F1F91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D82B-37FA-46BB-B456-9BDF3C74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A1E-3056-4249-8F04-DFA9CF0C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88A-58AA-490E-BAA3-5143AA4C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907-99B6-4B11-9186-3D382B3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0A1-1621-4EE1-A17E-2E0365FB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FD3-91C7-405F-A894-9133BB6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A79-D10C-4C80-A44F-CBBC701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4E8-CFB4-44CF-86D5-1877810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A92-CB0D-468A-97B3-49361B0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c18e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8e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B0A-387B-40A5-A682-953F58CE3C3F}" type="datetime">
              <a:rPr b="0" lang="en-US" sz="1400" spc="-1" strike="noStrike">
                <a:solidFill>
                  <a:srgbClr val="c18eb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8eb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18eb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8eb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88B6-C626-4C83-864B-3EA57B4AA038}" type="slidenum">
              <a:rPr b="0" lang="en-US" sz="1400" spc="-1" strike="noStrike">
                <a:solidFill>
                  <a:srgbClr val="c18eb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8eb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447-E4CF-4AA5-B999-56A8B0457C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213-D03A-4803-BD54-99CB268E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kyrush.com/joe/martini1.jpg&amp;imgrefurl=http://www.skyrush.com/joe/martini.html&amp;h=393&amp;w=347&amp;sz=59&amp;hl=en&amp;start=1&amp;tbnid=e1DEpWTtsxxrBM:&amp;tbnh=143&amp;tbnw=126&amp;prev=/images%3Fq%3Dmartini%26gbv%3D2%26svnum%3D10%26hl%3Den%26safe%3Doff%26sa%3D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laughingsquid.com/wp-content/uploads/anchor_beer.jpg&amp;imgrefurl=http://laughingsquid.com/the-4th-annual-san-francisco-beer-olympics/&amp;h=500&amp;w=318&amp;sz=73&amp;hl=en&amp;start=2&amp;tbnid=TJtFORATWyFBkM:&amp;tbnh=130&amp;tbnw=83&amp;prev=/images%3Fq%3Dbeer%26gbv%3D2%26svnum%3D10%26hl%3Den%26safe%3Doff%26sa%3D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599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The Zen </a:t>
            </a:r>
            <a:br>
              <a:rPr sz="4400"/>
            </a:b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of Online </a:t>
            </a:r>
            <a:br>
              <a:rPr sz="4400"/>
            </a:b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 Design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81120" y="4343040"/>
            <a:ext cx="358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Damion Schubert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Bioware Austin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64008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ebf"/>
                </a:solidFill>
                <a:latin typeface="Maiandra GD"/>
              </a:rPr>
              <a:t>www.zenofdesig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rime and Punishment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48640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“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My job became easier once I discovered I hate my customer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527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We often lose the focu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733920"/>
            <a:ext cx="167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Never lose sight of your customer’s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Which brings us to the Cupholders.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52070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Some Crappy Cupholders I’ve seen: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352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 bottom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8862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 thi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495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 gearshift jo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055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 stereo blo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customers are looking for a long-term relationship when looking for cars.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8862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(Just like they are for MM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9480" y="2514600"/>
            <a:ext cx="28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84720" y="2514600"/>
            <a:ext cx="273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809880" cy="27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57800" y="2438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pperplate Gothic Bold"/>
              </a:rPr>
              <a:t>Agenda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533412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(I’m totally serious)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1911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Discuss Cupho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0481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Stray Thoughts on MM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676520"/>
            <a:ext cx="784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Experimental Mental Models to Aid MM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People looking long-term Are looking for: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352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izz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8862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4495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2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Don’t lose sight of how your game looks to a new user evaluating its long-term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Now for a visual model!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1676520"/>
            <a:ext cx="0" cy="373356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581280"/>
            <a:ext cx="457200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943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ebf"/>
                </a:solidFill>
                <a:latin typeface="Maiandra GD"/>
              </a:rPr>
              <a:t>(Seriously, you all should know this one by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541008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Inte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11430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35268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335268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4197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Copperplate Gothic Light"/>
              </a:rPr>
              <a:t>Explo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209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Copperplate Gothic Light"/>
              </a:rPr>
              <a:t>Achie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209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Copperplate Gothic Light"/>
              </a:rPr>
              <a:t>Ki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4197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Copperplate Gothic Light"/>
              </a:rPr>
              <a:t>Sociali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Bartle’s Four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The Player Lifeline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51055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 player will keep playing until he quits.  This model attempts to predict those mo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it Point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447920" y="3733560"/>
            <a:ext cx="380880" cy="1066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581280" y="3733920"/>
            <a:ext cx="533520" cy="1218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15000" y="3733560"/>
            <a:ext cx="0" cy="11430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0" y="3733560"/>
            <a:ext cx="609480" cy="11430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952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Initial credit card sign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Credit card charges come d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4382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Some exit points are inh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it Point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4382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Some exit points are outside of our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95680" y="3733920"/>
            <a:ext cx="533520" cy="1295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705360" y="3657600"/>
            <a:ext cx="533160" cy="12952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Little Billy discovers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51055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Little Billy’s mom finally notices the charge on her credit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it Point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24382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Even when within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62520" y="3809520"/>
            <a:ext cx="75960" cy="11430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38880" y="3733920"/>
            <a:ext cx="762120" cy="1218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Billy finally hears the voice of the hot Elf he’s been crushing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Billy is kicked from his guild for not contributing enough to the guild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3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Never underestimate how much guild drama scares the hell out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it Point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99072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However, plenty are within our contro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62520" y="3733920"/>
            <a:ext cx="533160" cy="1218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238880" y="3733560"/>
            <a:ext cx="76320" cy="10666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The end of f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You’ve completed every quest in the game, and now are forced to raid or Pv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50292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The Brick w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You realize it takes 4 times as long to get level 30 as it did 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429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429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429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048120"/>
            <a:ext cx="30456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16765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The sudden realiz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You’ve killed 2500 water elementals to enchant this hammer.  And you’re just going to replac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429000"/>
            <a:ext cx="228600" cy="228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2971800"/>
            <a:ext cx="83808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16765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The pimpslap penal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You’ve just spent 6 hours failing a quest, and now must do the whole thing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Meridian 59</a:t>
            </a:r>
            <a:endParaRPr b="0" lang="en-US" sz="36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981080"/>
            <a:ext cx="6400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Ultima Onlin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971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Shadowb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2670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Bioware’s totally top secret MMO that I can’t talk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4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dentify and eradicate potential exit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The Three ‘R’s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36576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1148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duction of costs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Let’s Talk Hardcor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193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Hardcore is a relative measurement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o an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3733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o a 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41911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o a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4775400" cy="3581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14400" y="54100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nd it’s specific from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o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Hardcore is a measure of personal investment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57913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nd investment i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5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Hardcore and casual is not binary, it’s a sliding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 want players to go throug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1752480"/>
            <a:ext cx="1904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a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Dev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rd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Another mental model!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25146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haracter Creation, Newbie Quests an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2004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Adventuring Levels 5-25, Low Level Battlegrounds, Ch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8862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Adventuring Levels 25-50, Crafting,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5720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unning Instances, 10-man Raids, Gu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5257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25-man Raids, Rep Grinding, Competitive PvP, UI Mo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Leve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1828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Sampl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1752480"/>
            <a:ext cx="1904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a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Dev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rd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Investment Continuum!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25146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haracter Creation, Newbie Quests an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2004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Adventuring Levels 5-25, Low Level Battlegrounds, Ch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8862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Adventuring Levels 25-50, Crafting,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45720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unning Instances, 10-man Raids, Gu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5257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25-man Raids, Rep Grinding, Competitive PvP, UI Mo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Leve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1828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Sampl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1752480"/>
            <a:ext cx="1904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a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Dev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rd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Do it for your 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5146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38862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257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25146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32004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8862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45720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Leve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1828800"/>
            <a:ext cx="403884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Sampl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1828800"/>
            <a:ext cx="160020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R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6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 want to create investment by moving the player up the investment continuum.  Make this transition as smooth and seamless as is humanly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ZenOfDesign.com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52680" y="20574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Yay, synergy)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7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eware of gaps in your casual-hardcore continuu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419720" y="1295280"/>
            <a:ext cx="0" cy="403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58128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Interesting Side Note: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342900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1143000"/>
            <a:ext cx="396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The more invested a player 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8ebf"/>
                </a:solidFill>
                <a:latin typeface="Maiandra GD"/>
              </a:rPr>
              <a:t>The less threatening an exit poin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342900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447920" y="2057400"/>
            <a:ext cx="7010280" cy="144792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648320" y="2819160"/>
            <a:ext cx="0" cy="1600200"/>
          </a:xfrm>
          <a:prstGeom prst="line">
            <a:avLst/>
          </a:prstGeom>
          <a:ln cap="rnd" w="9360">
            <a:solidFill>
              <a:srgbClr val="ffffc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019920" y="2514600"/>
            <a:ext cx="0" cy="1905120"/>
          </a:xfrm>
          <a:prstGeom prst="line">
            <a:avLst/>
          </a:prstGeom>
          <a:ln cap="rnd" w="9360">
            <a:solidFill>
              <a:srgbClr val="ffffc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162920" y="2285640"/>
            <a:ext cx="0" cy="2133720"/>
          </a:xfrm>
          <a:prstGeom prst="line">
            <a:avLst/>
          </a:prstGeom>
          <a:ln cap="rnd" w="9360">
            <a:solidFill>
              <a:srgbClr val="ffffc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048120" y="3200040"/>
            <a:ext cx="0" cy="1219320"/>
          </a:xfrm>
          <a:prstGeom prst="line">
            <a:avLst/>
          </a:prstGeom>
          <a:ln cap="rnd" w="9360">
            <a:solidFill>
              <a:srgbClr val="ffffc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15228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Ca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Inter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447920" y="3505320"/>
            <a:ext cx="0" cy="761760"/>
          </a:xfrm>
          <a:prstGeom prst="line">
            <a:avLst/>
          </a:prstGeom>
          <a:ln cap="rnd" w="9360">
            <a:solidFill>
              <a:srgbClr val="ffffc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Dev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627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8ebf"/>
                </a:solidFill>
                <a:latin typeface="Maiandra GD"/>
              </a:rPr>
              <a:t>Hard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8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eople aren’t as hardcore as they th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No one is hardcore on their first log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Why are the Hardcore important?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erve as cultural touchst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rovide aspiration for less committed p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y evangelize. (Hope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9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lockbusters happen when the hardcore evangelize the game to their more casual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Your game is too hardcore if: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r hardcore customers are ashamed that they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3733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r hardcore customers are being exclusion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33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2971800"/>
            <a:ext cx="2446200" cy="277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8560" y="297180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0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 control you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0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You 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must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ontrol you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1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eware of charismatic idi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hy Zen?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(other than it was the only good domain that was available)</a:t>
            </a:r>
            <a:endParaRPr b="0" lang="en-US" sz="28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People easily take social cues for behavior: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200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tanford Prison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733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urning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2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320040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Match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048200" cy="4686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114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The Great</a:t>
            </a:r>
            <a:br>
              <a:rPr sz="4000"/>
            </a:b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Game-World Debate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2004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nd how to make it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47960" y="19047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3048120"/>
            <a:ext cx="2362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mm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1905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95680" y="3124080"/>
            <a:ext cx="2362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ower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629040" y="3657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37339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53352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Observation #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3657600"/>
            <a:ext cx="72388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50532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144792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t’s not binary either.  It’s a sliding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629040" y="5410080"/>
            <a:ext cx="2514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5334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2286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Observation #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121932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re’s a third leg on the s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86000" y="2971440"/>
            <a:ext cx="27432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029200" y="2971440"/>
            <a:ext cx="22860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2209680"/>
            <a:ext cx="3962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57240" y="19047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3048120"/>
            <a:ext cx="2362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mm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1905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3124080"/>
            <a:ext cx="23619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ower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1905120"/>
            <a:ext cx="388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3124080"/>
            <a:ext cx="2895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o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7240" y="19047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048120"/>
            <a:ext cx="2362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R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mm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ntrinsic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1905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05320" y="3124080"/>
            <a:ext cx="23619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Power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Explicit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905120"/>
            <a:ext cx="388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3124080"/>
            <a:ext cx="2895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o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nter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ocial    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29040" y="5410080"/>
            <a:ext cx="2514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5334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228600"/>
            <a:ext cx="678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Activity Land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49528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121932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ased on design, your game is somewhere on this landsc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286000" y="2971440"/>
            <a:ext cx="27432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029200" y="2971440"/>
            <a:ext cx="22860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2209680"/>
            <a:ext cx="3962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4267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Zen Philosophy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(The Cliff Notes of the Cliff Notes version)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0384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Copperplate Gothic Bold"/>
              </a:rPr>
              <a:t>Enlightenment can only come through experience, meditation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29040" y="5410080"/>
            <a:ext cx="2514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Gam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19320" y="5334120"/>
            <a:ext cx="251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28600"/>
            <a:ext cx="678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Activity Landsc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8320" y="49528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3716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e sweet spot is in the mid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86000" y="2971440"/>
            <a:ext cx="27432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029200" y="2971440"/>
            <a:ext cx="2286000" cy="24382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2209680"/>
            <a:ext cx="3962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71600" y="6248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ebf"/>
                </a:solidFill>
                <a:latin typeface="Maiandra GD"/>
              </a:rPr>
              <a:t>(Your players will tend to push things in that directio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47242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581280" y="4343400"/>
            <a:ext cx="76212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724280" y="4419360"/>
            <a:ext cx="0" cy="533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tray Thought #13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200400"/>
            <a:ext cx="533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Build a well-centered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The Rule of Three: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48120" y="3200400"/>
            <a:ext cx="533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Systems should always strive to be good for at least 2 of the three activity asp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ample:</a:t>
            </a:r>
            <a:br>
              <a:rPr sz="4000"/>
            </a:b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“We should have permadeath!”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32004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World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t’s realistic!  Ship it!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Game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That doesn’t sound like fun. </a:t>
            </a:r>
            <a:r>
              <a:rPr b="0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Community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Disappearing identities make it harder for me to track my friends.  </a:t>
            </a: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ample:</a:t>
            </a:r>
            <a:br>
              <a:rPr sz="4000"/>
            </a:b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“Voice Chat!”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20574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World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Hearing the voice of that hot Elf chick will break my immersion. </a:t>
            </a:r>
            <a:r>
              <a:rPr b="0" lang="en-US" sz="2800" spc="-1" strike="noStrike">
                <a:solidFill>
                  <a:srgbClr val="ff0000"/>
                </a:solidFill>
                <a:latin typeface="Maiandra G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Game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llows for more tactical, more interesting group combat.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Community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t makes it easier to communicate and coordinate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Example:</a:t>
            </a:r>
            <a:br>
              <a:rPr sz="4000"/>
            </a:b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“Long travel times!”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32004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World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t will make our worlds feel larger and more immersive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Game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Must it take a long time to get to the fun? </a:t>
            </a:r>
            <a:r>
              <a:rPr b="0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Community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 want to play with my friends faster.  </a:t>
            </a: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“</a:t>
            </a: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Well, what if we add a player teleporter profession?”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320040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World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My worlds will still feel large and immersive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Game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I still don’t like it. </a:t>
            </a:r>
            <a:r>
              <a:rPr b="1" lang="en-US" sz="2800" spc="-1" strike="noStrike">
                <a:solidFill>
                  <a:srgbClr val="ff0000"/>
                </a:solidFill>
                <a:latin typeface="Maiandra GD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Community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Now you’ve added a social interdependency factor and created a new player profession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“</a:t>
            </a:r>
            <a:r>
              <a:rPr b="0" lang="en-US" sz="3600" spc="-1" strike="noStrike">
                <a:solidFill>
                  <a:srgbClr val="c18ebf"/>
                </a:solidFill>
                <a:latin typeface="Copperplate Gothic Bold"/>
              </a:rPr>
              <a:t>Crafting”</a:t>
            </a:r>
            <a:endParaRPr b="0" lang="en-US" sz="36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320040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World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reates a rich and interesting player economy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Game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Gives me more powerful goodies as well as tangible rewards, as long as I’m willing to talk to filthy roleplayers.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aiandra GD"/>
              </a:rPr>
              <a:t>Community:</a:t>
            </a:r>
            <a:r>
              <a:rPr b="1" lang="en-US" sz="2800" spc="-1" strike="noStrike">
                <a:solidFill>
                  <a:srgbClr val="c18ebf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Creates highly social network hubs.  </a:t>
            </a:r>
            <a:r>
              <a:rPr b="1" lang="en-US" sz="2800" spc="-1" strike="noStrike">
                <a:solidFill>
                  <a:srgbClr val="009900"/>
                </a:solidFill>
                <a:latin typeface="Maiandra GD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Questions?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7524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8ebf"/>
                </a:solidFill>
                <a:latin typeface="Copperplate Gothic Bold"/>
              </a:rPr>
              <a:t>Discussion about MMO design tends to be gravitate in one of three directions</a:t>
            </a:r>
            <a:endParaRPr b="0" lang="en-US" sz="40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Ant Farming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71800" y="18288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5257800"/>
            <a:ext cx="6324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“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Allowing people to set other people on fire will create some interesting social dynamic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Bean counting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52578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“</a:t>
            </a:r>
            <a:r>
              <a:rPr b="0" lang="en-US" sz="2800" spc="-1" strike="noStrike">
                <a:solidFill>
                  <a:srgbClr val="c18ebf"/>
                </a:solidFill>
                <a:latin typeface="Maiandra GD"/>
              </a:rPr>
              <a:t>Let’s pick up and shake our customers and see if they drop any loose chang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1240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09:34:12Z</dcterms:created>
  <dc:creator>Damion</dc:creator>
  <dc:description/>
  <dc:language>en-US</dc:language>
  <cp:lastModifiedBy>Damion</cp:lastModifiedBy>
  <dcterms:modified xsi:type="dcterms:W3CDTF">2007-09-06T05:52:17Z</dcterms:modified>
  <cp:revision>35</cp:revision>
  <dc:subject/>
  <dc:title>Title</dc:title>
</cp:coreProperties>
</file>