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2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lobe"/>
          <p:cNvPicPr/>
          <p:nvPr/>
        </p:nvPicPr>
        <p:blipFill>
          <a:blip r:embed="rId2"/>
          <a:stretch/>
        </p:blipFill>
        <p:spPr>
          <a:xfrm>
            <a:off x="7696080" y="579132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ion-2008-powerpoint-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The Next Five Yea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4"/>
          <p:cNvSpPr/>
          <p:nvPr/>
        </p:nvSpPr>
        <p:spPr>
          <a:xfrm>
            <a:off x="2743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Damion Schu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Felix Titling"/>
              </a:rPr>
              <a:t>www.zenofdesig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-115092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Habbo &amp; Pengu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Players are going to gradu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Nich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Real opportunity in aiming for smaller markets at lower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elix Titling"/>
              </a:rPr>
              <a:t>succes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What will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Look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elix Titling"/>
              </a:rPr>
              <a:t>Design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Innovati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581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But not </a:t>
            </a: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we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Comfortab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Familiar, accessible spaces with reso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685800" y="1447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Direct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7432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not depend on serendipity to entertain the p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elix Titling"/>
              </a:rPr>
              <a:t>Repeatable F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057400" y="38098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 core gameplay loop is fun not for hours or days, but for weeks or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elix Titling"/>
              </a:rPr>
              <a:t>Respectful Pri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2057400" y="38098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Players will feel good about the money they sp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elix Titling"/>
              </a:rPr>
              <a:t>Casual Friend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057400" y="38098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be accessible and polished at low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MMOs for Gam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922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 lot of People will be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4"/>
          <p:cNvSpPr/>
          <p:nvPr/>
        </p:nvSpPr>
        <p:spPr>
          <a:xfrm>
            <a:off x="2743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Many will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elix Titling"/>
              </a:rPr>
              <a:t>Hardco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2057400" y="38098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keep their most devoted players enga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elix Titling"/>
              </a:rPr>
              <a:t>Solo Friend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24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let you move forward even if your friends are off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DUO FRIEND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coopt the Girl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Low Min Req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90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It will run on the house’s second mac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elix Titling"/>
              </a:rPr>
              <a:t>Massi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32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 promise of large-group Gameplay Captures the Imag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81240" y="2057040"/>
            <a:ext cx="9753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elix Titling"/>
              </a:rPr>
              <a:t>Unapologetic M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28954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ey will reflect the maker’s love of the gen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676520" y="2057040"/>
            <a:ext cx="9753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elix Titling"/>
              </a:rPr>
              <a:t>Obvi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1523880" y="350532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So stop making me play crappy betas where it seems like we’ve learned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-1371600" y="182880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I know this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04920" y="251424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elix Titling"/>
              </a:rPr>
              <a:t>You may be doome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1295280" y="22860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365760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Enjoy the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End Stream of Consci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Casual MM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922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 lot of People will be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2743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Many will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MMOS for KI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922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 lot of People will be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2743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Many will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elix Titling"/>
              </a:rPr>
              <a:t>Youtube M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990720" y="1676520"/>
            <a:ext cx="922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 lot of People will be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2743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Many will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Doom And Gl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762480" y="16765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This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This is simply the</a:t>
            </a:r>
            <a:r>
              <a:rPr b="1" i="1" lang="en-US" sz="3200" spc="-1" strike="noStrike">
                <a:solidFill>
                  <a:srgbClr val="000000"/>
                </a:solidFill>
                <a:latin typeface="Felix Titling"/>
              </a:rPr>
              <a:t> Long T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Very Go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-762120" y="16765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The next five years will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For the gen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Mainstre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Massively Multiplayer is now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Than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44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elix Titling"/>
              </a:rPr>
              <a:t>Wow Play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lix Titling"/>
              </a:rPr>
              <a:t>Are finally going to get b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6:20:56Z</dcterms:created>
  <dc:creator>Damion Schubert</dc:creator>
  <dc:description/>
  <dc:language>en-US</dc:language>
  <cp:lastModifiedBy>Microsoft account</cp:lastModifiedBy>
  <dcterms:modified xsi:type="dcterms:W3CDTF">2014-12-07T01:40:07Z</dcterms:modified>
  <cp:revision>19</cp:revision>
  <dc:subject/>
  <dc:title>Slide 1</dc:title>
</cp:coreProperties>
</file>