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4DC-C8DA-41F5-B129-CBF7ABBC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7EB-D174-4F1B-A4F7-0C2D2BB6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0F3-6199-43BE-9D68-5F2D6754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8B9-645D-47DF-AA2E-2EED2930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85F-3EFC-4EE5-9F90-9A888503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CD0-DB15-47F4-B245-0A6E4A00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BDC-EF4E-4E0E-8786-5B1119E4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AAA-22E8-45D0-AC76-B70D8C3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3AA-B441-490A-9699-59E26B8D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1F1-364B-4C3A-86D3-AE3B6E8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524-16CC-41AD-9FF4-E7DC916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DF9-D83F-45E8-8F69-5C25EA23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6432-885B-4299-905C-59EA9A0E5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ollectabl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ing the obsessive compulsive tendencies of your player-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carc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s, uncommons and r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-rares (foil-lined ca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ing rarity on the fly (automated or by h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ention value of rar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termittent Reward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. F. Skinner on operant conditio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. Behavior that is followed by positive environmental effects (positive reinforcement, or reward) increases in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. Behavior that is followed by the withdrawal of negative environmental effects (negative reinforcement) also increases in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lot Machine mentality vs the Tread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as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Book Antiqua"/>
              </a:rPr>
              <a:t>Valueless Component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dmill exists due to amount of time we are forced to entertain these 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ble items are a way to grant more frequent rewards that may have no intrinsic value on thei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ollectibles and Online Gam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it such a good m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ersisten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of your virtual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er of distrib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ommunity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to trade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to bra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understand your obs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 need for goal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s want continued re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s also want to play for thousands of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s need to play at their own 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tegrating Collectibl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ghts on making it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Build with Collecting in Min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heron’s Call’s “Pack Animal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ima Online’s “Green Ar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layers get to show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bie players get a taste of the breadth of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Use Existing Physic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ng should mostly b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ble items are mostly aesthetically different from other items (no gameplay advantage) so have no balance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means it should be cheaper and lower-risk than other features you could a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use existing object distribution models (Crafting, Loot, Quest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variety of systems to complete one full set, to broaden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ings People Colle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berge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vis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er Bot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Horse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on’t Go Overboar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ey component of collectibility is the goal.  Don’t move the finish line too dras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ub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dd Replay Valu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llectibility to put a new slant on co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y Cooper and the Thievus Raccoon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 conclu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ble items are powerful motivators in virtual worlds as well as in real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bles create opt-in, lateral goals which can be distributed in a way which broadens the apparent scope of the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ble items are relatively low-risk to imp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ill, in fact, pay real-life money for virtual cow du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ung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Games Using Collectabil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tima Online (originally mostly by accid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eron’s Call and Star Wars Galaxies (crafting collection que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emon and Magic: The 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io 64 and most Consol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do people collect?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thetics/Uniqu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pe for the big 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p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litch in the Matri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collects beer bottles so that he can fall into his hobby and ignore me all night long because he doesn’t love me any more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verse P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the hell n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r better put…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goal or system so unreachable, so nerfed or so broken that someone, somewhere won’t see it as a mountain to clim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Basic Tenets of Collectibl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osed Sets vs Open Se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tima Online: Open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: the Gathering: Closed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on Bon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rr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pt-In, Lateral Gamepla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s can play at their own 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s can do things in almost an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asks may be needed to collect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without a treadm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how long we have to entertain these people, this is signific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7:00:13Z</dcterms:created>
  <dc:creator>Damion Schubert</dc:creator>
  <dc:description/>
  <dc:language>en-US</dc:language>
  <cp:lastModifiedBy>Damion Schubert</cp:lastModifiedBy>
  <dcterms:modified xsi:type="dcterms:W3CDTF">2003-09-11T07:10:12Z</dcterms:modified>
  <cp:revision>1</cp:revision>
  <dc:subject/>
  <dc:title>Collectables</dc:title>
</cp:coreProperties>
</file>